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b">
            <a:noAutofit/>
          </a:bodyPr>
          <a:lstStyle>
            <a:lvl1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0680B480-B37A-4F6B-A266-2C697CA615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E4725A5A-A547-40B3-9BF5-23A25A4CD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8354F4DC-FC91-45A8-B2B5-D569CF1C9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E294ABC5-CA93-44D3-B255-A19C12777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3A86B64A-DB4F-4E80-940C-551580D12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A04ADD14-87E9-4DC9-8A91-0426952E3B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20885A17-085A-469F-9991-3FC0A863A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C5767204-5380-44C7-BBC1-CA85D5250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B7AAB8F6-F6AE-47E9-A5D7-4617BB3F0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FF210B72-C33D-4B07-941B-080077B23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81141887-B82E-44D3-ADE0-83D4EE320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B8BFFF6B-CA3A-41BF-B45A-FF9AF3AFE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B9F9CD79-4C6F-4D9E-95B5-095339803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8AF5B28E-2827-4490-92B0-916E897CC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0CCA5454-445D-4C88-97A8-3EB1EA67F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BF0395B0-D0B6-4D86-8838-A071DF58E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EE8AAF8E-A437-4EA7-816F-5092703A8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B16FC13A-618C-4D95-80F9-98CEFF14B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AFDE248F-7E3B-4DFA-A84F-586BB5F9A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2752-B6A7-48B4-BB9A-DE76DC46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5047-C3FF-41D1-A4AA-A086406F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52D0-7596-4514-901B-0B352C09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FEBF-E17C-46F2-9BC3-E4E4CA95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9E7A-8572-45B6-BC4F-B057B5D9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66F7-2297-48B8-997B-7D76C7D0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0AD2-E60E-47A9-981C-6E2C196E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3AC9-5BB7-4766-AE6D-56860EE0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6FF1-1AB3-4C41-9365-F980AE97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1404-5C79-4B9E-8275-1ACDF23F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709C-E572-41AD-99DC-B8AFD68F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F18F-B817-4A1D-97D1-A5D73542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B065-B791-42B9-AAF6-95F0DCF8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F3B1-8BE3-4D4E-B12A-432692DD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DEA8-A6B4-492E-9FB2-AF7C3190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4295-4C0E-446F-8A33-6C3525F0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6D98-6194-46C2-8B24-69C873DA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5892-BEBD-4530-A456-6B76F3CC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BEC0-64DB-41B2-B687-3CB82D4E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0058-5093-47F0-8ECA-52961D66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68E1-F766-4C85-BD80-61A44BD8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B8CD-85ED-47EE-8B99-A3E32252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BDC4-29B0-4664-BF72-49D15475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4AB4-CC6D-4D76-9662-BA4D4490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98D4-8335-4C5C-9020-4936279CE4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DD6F-84F7-4648-821A-DC630EB645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427040"/>
            <a:ext cx="85345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Kristen ITC"/>
              </a:rPr>
              <a:t>Geometry Math Center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9" descr="j0323756"/>
          <p:cNvPicPr/>
          <p:nvPr/>
        </p:nvPicPr>
        <p:blipFill>
          <a:blip r:embed="rId1"/>
          <a:stretch/>
        </p:blipFill>
        <p:spPr>
          <a:xfrm>
            <a:off x="4876920" y="3429000"/>
            <a:ext cx="26064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anksgiving Transformations Material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cut-o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nk index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Leafy Grid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player should select 5 fall pictures and place them on their coordinate gr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ers take turns calling-out ordered pairs.  If a player names the correct location of a fall item, it is rem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inner is the first player to locate all 5 of their partner’s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j0250169"/>
          <p:cNvPicPr/>
          <p:nvPr/>
        </p:nvPicPr>
        <p:blipFill>
          <a:blip r:embed="rId1"/>
          <a:stretch/>
        </p:blipFill>
        <p:spPr>
          <a:xfrm>
            <a:off x="6553080" y="5254560"/>
            <a:ext cx="25909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fy Grids Materi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grids—paper, cookie sheets, box lids, poster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items—attached with magnets, velcro, tape, or drawn on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3-Dimensional Fu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lete the following activities to explore 3-D sha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rt the 3-D shap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groups can you create?                                            Sort the shapes again.  Can you create different grou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 “Mystery Shape” with a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your partner looking, hide a 3-D shape in a bag.  Have your partner reach in the bag and feel the shape.  Can they guess what shape is in the ba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j0290350"/>
          <p:cNvPicPr/>
          <p:nvPr/>
        </p:nvPicPr>
        <p:blipFill>
          <a:blip r:embed="rId1"/>
          <a:stretch/>
        </p:blipFill>
        <p:spPr>
          <a:xfrm>
            <a:off x="7072200" y="1371600"/>
            <a:ext cx="20718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3-Dimensional Fu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3-D shapes with the materials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rshmallows &amp; toothpi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umdrops &amp; toothpi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y &amp; toothpi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re &amp; str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ipeclea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oblock Match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tch the 3-Dimensional blocks with each 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-D Scavenger H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arch around the room to find 3-D shapes.  Which shapes are easier to find?  Why do you think these shapes are easier to fi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5715000" y="2438280"/>
            <a:ext cx="1752480" cy="9144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6705720" y="3200400"/>
            <a:ext cx="1218960" cy="11430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86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Comic Sans MS"/>
              </a:rPr>
              <a:t>Triangle Investigation</a:t>
            </a:r>
            <a:endParaRPr b="0" lang="en-US" sz="5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57200" y="1523880"/>
            <a:ext cx="81532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the chenille stems to try to make triangles.  Cut the chenille stems to the length listed on the investigation sheet.  Is it possible to make each triang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conjectures can you make about the length of triang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3733920" y="5105520"/>
            <a:ext cx="1676160" cy="1295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4952880" y="4876920"/>
            <a:ext cx="1752840" cy="106668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6934320" y="4572000"/>
            <a:ext cx="1066680" cy="198108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 rot="7212600">
            <a:off x="1752480" y="5410080"/>
            <a:ext cx="1447920" cy="14479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omic Sans MS"/>
              </a:rPr>
              <a:t>Perplexing Polygon Puzzles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lete the polygon puzzles and designs us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ntomin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an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ttern Bl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j0232910"/>
          <p:cNvPicPr/>
          <p:nvPr/>
        </p:nvPicPr>
        <p:blipFill>
          <a:blip r:embed="rId1"/>
          <a:stretch/>
        </p:blipFill>
        <p:spPr>
          <a:xfrm>
            <a:off x="5867280" y="2743200"/>
            <a:ext cx="2341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Polygons with Triangl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rrange the triangles to make as many polygons as you can.  Sort the polygons and glue your designs to a large pos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5181480" y="4572000"/>
            <a:ext cx="1447920" cy="137160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6705720" y="4572000"/>
            <a:ext cx="1447560" cy="137160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 rot="10800000">
            <a:off x="5943600" y="4572000"/>
            <a:ext cx="1447920" cy="137160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838080" y="4114800"/>
          <a:ext cx="3505320" cy="1638360"/>
        </p:xfrm>
        <a:graphic>
          <a:graphicData uri="http://schemas.openxmlformats.org/drawingml/2006/table">
            <a:tbl>
              <a:tblPr/>
              <a:tblGrid>
                <a:gridCol w="1371600"/>
                <a:gridCol w="213372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n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drilate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ag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g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olygon Desig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a variety of figures using the materials provided.  Once you have created several shapes, sort them into groups based on their attrib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eri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arn &amp; g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othpicks &amp; g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oboards &amp; rubberba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6705720" y="4343400"/>
            <a:ext cx="990360" cy="91440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7010280" y="4952880"/>
            <a:ext cx="990720" cy="99072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6095880" y="5334120"/>
            <a:ext cx="76212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ffff"/>
                </a:solidFill>
                <a:latin typeface="Comic Sans MS"/>
              </a:rPr>
              <a:t>Pumpkin Nim</a:t>
            </a:r>
            <a:r>
              <a:rPr b="0" lang="en-US" sz="4200" spc="-1" strike="noStrike">
                <a:solidFill>
                  <a:srgbClr val="ffffff"/>
                </a:solidFill>
                <a:latin typeface="Kristen ITC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ire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ers take turns placing one pattern block piece at a time until the pumpkin is cove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erson who fills in the last hexagon wi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 again and change the rules so that the loser is the one who covers the last hexag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j0335889"/>
          <p:cNvPicPr/>
          <p:nvPr/>
        </p:nvPicPr>
        <p:blipFill>
          <a:blip r:embed="rId1"/>
          <a:stretch/>
        </p:blipFill>
        <p:spPr>
          <a:xfrm>
            <a:off x="5867280" y="380880"/>
            <a:ext cx="205740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Apple Nim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ire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ers take turns placing one pattern block piece at a time until the apple is cove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erson who fills in the last space wi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 again and change the rules so that the loser is the one who covers the last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j0344872"/>
          <p:cNvPicPr/>
          <p:nvPr/>
        </p:nvPicPr>
        <p:blipFill>
          <a:blip r:embed="rId1"/>
          <a:stretch/>
        </p:blipFill>
        <p:spPr>
          <a:xfrm>
            <a:off x="5562720" y="304920"/>
            <a:ext cx="162216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im Material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mpkin Nim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 Nim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easonal Symmetry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ort the fall pictures into 4 groups.           1 – Has line symmetry                               2 – Has rotational symmetry                           3 – Has both line and rotational symmetry                                                 4 – Not symmetrical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raw or use the pattern blocks to create four designs -- one to fit each category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actice using the mira                      and mirrors to find               symmetrical designs.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j0280635"/>
          <p:cNvPicPr/>
          <p:nvPr/>
        </p:nvPicPr>
        <p:blipFill>
          <a:blip r:embed="rId1"/>
          <a:stretch/>
        </p:blipFill>
        <p:spPr>
          <a:xfrm>
            <a:off x="5791320" y="4952880"/>
            <a:ext cx="2133360" cy="1704960"/>
          </a:xfrm>
          <a:prstGeom prst="rect">
            <a:avLst/>
          </a:prstGeom>
          <a:ln w="0">
            <a:noFill/>
          </a:ln>
        </p:spPr>
      </p:pic>
      <p:sp>
        <p:nvSpPr>
          <p:cNvPr id="111" name="Line 5"/>
          <p:cNvSpPr/>
          <p:nvPr/>
        </p:nvSpPr>
        <p:spPr>
          <a:xfrm>
            <a:off x="6858000" y="4876920"/>
            <a:ext cx="0" cy="19810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easonal Symmetry Activitie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cut-outs and 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 materials—crayons, marker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Fabulous Fall Ar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a scarecrow using only polygons.  Record the name of     each polygon used in your des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a fall picture using pattern blocks.  Trace and color the design on construction paper.  Find the total fractional amount of your design (Hexagon = 1) and record at the bottom of your pictu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j0285614"/>
          <p:cNvPicPr/>
          <p:nvPr/>
        </p:nvPicPr>
        <p:blipFill>
          <a:blip r:embed="rId1"/>
          <a:stretch/>
        </p:blipFill>
        <p:spPr>
          <a:xfrm>
            <a:off x="6858000" y="228600"/>
            <a:ext cx="19843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abulous Fall Art Material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metric shapes precu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on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e or glue st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rs, crayons, or colored penc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ksgiving Transform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actice reflections, translations, and rotations using the fall cut-outs.    Try to stump your partner—create a transformation and see if your partner can correctly identify i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one and glue to a note c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 the note cards created so far and determine if the transformation is a reflection, translation, or                  ro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j0228933"/>
          <p:cNvPicPr/>
          <p:nvPr/>
        </p:nvPicPr>
        <p:blipFill>
          <a:blip r:embed="rId1"/>
          <a:stretch/>
        </p:blipFill>
        <p:spPr>
          <a:xfrm>
            <a:off x="6324480" y="5181480"/>
            <a:ext cx="160020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02:04:20Z</dcterms:created>
  <dc:creator>Randolph County Schools</dc:creator>
  <dc:description/>
  <dc:language>en-US</dc:language>
  <cp:lastModifiedBy>Ana Flyod</cp:lastModifiedBy>
  <dcterms:modified xsi:type="dcterms:W3CDTF">2008-11-04T21:30:04Z</dcterms:modified>
  <cp:revision>23</cp:revision>
  <dc:subject/>
  <dc:title>Slide 1</dc:title>
</cp:coreProperties>
</file>